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zapbig0g.wav" ContentType="audio/x-wav"/>
  <Override PartName="/ppt/media/image7.wmf" ContentType="image/x-wmf"/>
  <Override PartName="/ppt/media/camera.wav" ContentType="audio/x-wav"/>
  <Override PartName="/ppt/media/image10.wmf" ContentType="image/x-wmf"/>
  <Override PartName="/ppt/media/carpeel.wav" ContentType="audio/x-wav"/>
  <Override PartName="/ppt/media/partyhorn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hzipup01.wav" ContentType="audio/x-wav"/>
  <Override PartName="/ppt/media/children%20big%20yeah.wav" ContentType="audio/x-wav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F846-FF41-4B6B-A908-D6292EC9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906-5018-401C-93CF-5CE9C8B8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43C-1EFE-4358-8D0D-71121404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D2F-794F-4AD7-B964-48005CE3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901-5229-4E88-B8B1-597FEE3C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D09-D4A7-4759-8872-E6BF162A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2A4-4860-48E0-B5C2-3389DC3B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296-87AD-4F8C-A379-3BFAF651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4E3-C3D6-406C-B57E-C4CDF67C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BA1-B19F-4B4C-8056-EFF7F4A0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AE3-9D61-4634-98E2-A33DAB34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0D2-2D39-490C-9DA6-2234452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7763-36AA-4200-B068-E507216ED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audio" Target="../media/zapbig0g.wav"/><Relationship Id="rId28" Type="http://schemas.openxmlformats.org/officeDocument/2006/relationships/audio" Target="../media/hzipup01.wav"/><Relationship Id="rId29" Type="http://schemas.openxmlformats.org/officeDocument/2006/relationships/audio" Target="../media/hzipup01.wav"/><Relationship Id="rId30" Type="http://schemas.openxmlformats.org/officeDocument/2006/relationships/audio" Target="../media/hzipup01.wav"/><Relationship Id="rId31" Type="http://schemas.openxmlformats.org/officeDocument/2006/relationships/audio" Target="../media/children%20big%20yeah.wav"/><Relationship Id="rId32" Type="http://schemas.openxmlformats.org/officeDocument/2006/relationships/audio" Target="../media/children%20big%20yeah.wav"/><Relationship Id="rId33" Type="http://schemas.openxmlformats.org/officeDocument/2006/relationships/audio" Target="../media/partyhorn.wav"/><Relationship Id="rId34" Type="http://schemas.openxmlformats.org/officeDocument/2006/relationships/audio" Target="../media/partyhorn.wav"/><Relationship Id="rId35" Type="http://schemas.openxmlformats.org/officeDocument/2006/relationships/audio" Target="../media/carpeel.wav"/><Relationship Id="rId36" Type="http://schemas.openxmlformats.org/officeDocument/2006/relationships/audio" Target="../media/camera.wav"/><Relationship Id="rId3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1676520"/>
            <a:ext cx="8686800" cy="4114800"/>
            <a:chOff x="228600" y="1676520"/>
            <a:chExt cx="8686800" cy="4114800"/>
          </a:xfrm>
        </p:grpSpPr>
        <p:sp>
          <p:nvSpPr>
            <p:cNvPr id="42" name=""/>
            <p:cNvSpPr/>
            <p:nvPr/>
          </p:nvSpPr>
          <p:spPr>
            <a:xfrm>
              <a:off x="228600" y="1676520"/>
              <a:ext cx="8686800" cy="41148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28954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8600" y="3581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8600" y="4724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s of Quadratic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76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form of a Quadratic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14600" y="1981080"/>
          <a:ext cx="396252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96252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8600" y="2895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aph of a quadratic is a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Parab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657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erte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a parabola is the lowest point that opens up, or the highest point that open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242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xis of Symmet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a parabola is the vertical line passing through the ve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a Quadratic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28600" y="1297080"/>
            <a:ext cx="8915400" cy="1373760"/>
            <a:chOff x="228600" y="1297080"/>
            <a:chExt cx="8915400" cy="1373760"/>
          </a:xfrm>
        </p:grpSpPr>
        <p:sp>
          <p:nvSpPr>
            <p:cNvPr id="375" name=""/>
            <p:cNvSpPr/>
            <p:nvPr/>
          </p:nvSpPr>
          <p:spPr>
            <a:xfrm>
              <a:off x="228600" y="1297080"/>
              <a:ext cx="8915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7. A ball was thrown and followed a path described by:                  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, What was the maximum height (in feet) of the thrown ball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52360" y="1666800"/>
                  <a:ext cx="288144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77" name=""/>
          <p:cNvGraphicFramePr/>
          <p:nvPr/>
        </p:nvGraphicFramePr>
        <p:xfrm>
          <a:off x="372960" y="3022560"/>
          <a:ext cx="355608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022560"/>
                    <a:ext cx="35560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2565360" y="3057480"/>
          <a:ext cx="3906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3057480"/>
                    <a:ext cx="390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2514600" y="3898800"/>
          <a:ext cx="180180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898800"/>
                    <a:ext cx="1801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4432320" y="3052800"/>
          <a:ext cx="1949400" cy="15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32320" y="3052800"/>
                    <a:ext cx="194940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6391440" y="3532320"/>
          <a:ext cx="1217520" cy="58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91440" y="3532320"/>
                    <a:ext cx="12175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441360" y="4595760"/>
          <a:ext cx="575136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360" y="4595760"/>
                    <a:ext cx="575136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"/>
          <p:cNvGraphicFramePr/>
          <p:nvPr/>
        </p:nvGraphicFramePr>
        <p:xfrm>
          <a:off x="3041640" y="4870440"/>
          <a:ext cx="731880" cy="58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1640" y="4870440"/>
                    <a:ext cx="7318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5016600" y="4870440"/>
          <a:ext cx="731880" cy="587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16600" y="4870440"/>
                    <a:ext cx="7318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1139760" y="5775480"/>
          <a:ext cx="1560600" cy="587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39760" y="5775480"/>
                    <a:ext cx="15606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4851360" y="5713560"/>
          <a:ext cx="1073160" cy="634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51360" y="5713560"/>
                    <a:ext cx="107316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504720" y="2567160"/>
            <a:ext cx="79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ximum height occurred at the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091120" y="3903840"/>
          <a:ext cx="1170000" cy="585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091120" y="3903840"/>
                    <a:ext cx="1170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2625840" y="5772240"/>
          <a:ext cx="1073160" cy="587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25840" y="5772240"/>
                    <a:ext cx="107316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3718080" y="5769000"/>
          <a:ext cx="1218960" cy="587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18080" y="5769000"/>
                    <a:ext cx="121896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ldren%20big%20yea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artyhorn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artyhorn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rpeel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etching a Quadratic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5680" y="1278000"/>
                <a:ext cx="4518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953400" y="763560"/>
                <a:ext cx="219060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55600" y="2046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641920" y="1266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052640" y="2116080"/>
                <a:ext cx="1285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400040" y="2975040"/>
                <a:ext cx="1398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847960" y="2021040"/>
                <a:ext cx="14558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321000" y="2925720"/>
                <a:ext cx="1009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484520" y="2506680"/>
                <a:ext cx="14018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413400" y="2538360"/>
                <a:ext cx="2187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806400" y="3803760"/>
                <a:ext cx="723420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01960" y="4010040"/>
                <a:ext cx="1009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00880" y="3967200"/>
                <a:ext cx="1009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16120" y="4848120"/>
                <a:ext cx="4093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951280" y="4898880"/>
                <a:ext cx="5047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75240" y="4856040"/>
                <a:ext cx="13460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927680" y="4870440"/>
                <a:ext cx="16254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31960" y="5726160"/>
                <a:ext cx="269064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164040" y="5719680"/>
                <a:ext cx="1288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75160" y="5724360"/>
                <a:ext cx="9540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805880" y="2589120"/>
                <a:ext cx="393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111640" y="2295000"/>
            <a:ext cx="3754440" cy="3429000"/>
            <a:chOff x="5111640" y="2295000"/>
            <a:chExt cx="3754440" cy="3429000"/>
          </a:xfrm>
        </p:grpSpPr>
        <p:grpSp>
          <p:nvGrpSpPr>
            <p:cNvPr id="78" name=""/>
            <p:cNvGrpSpPr/>
            <p:nvPr/>
          </p:nvGrpSpPr>
          <p:grpSpPr>
            <a:xfrm>
              <a:off x="5264280" y="2369880"/>
              <a:ext cx="3428640" cy="3276360"/>
              <a:chOff x="5264280" y="2369880"/>
              <a:chExt cx="3428640" cy="3276360"/>
            </a:xfrm>
          </p:grpSpPr>
          <p:sp>
            <p:nvSpPr>
              <p:cNvPr id="79" name=""/>
              <p:cNvSpPr/>
              <p:nvPr/>
            </p:nvSpPr>
            <p:spPr>
              <a:xfrm>
                <a:off x="6026040" y="2369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8160" y="2369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49920" y="2369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312040" y="2369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64280" y="2369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264280" y="2369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264280" y="2733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64280" y="3097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264280" y="3461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64280" y="3826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64280" y="4190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64280" y="4554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64280" y="4918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64280" y="5282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V="1">
              <a:off x="7924680" y="229500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11640" y="3073320"/>
              <a:ext cx="3754440" cy="144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etching a Quadratic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55680" y="1278000"/>
                <a:ext cx="4518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7080120" y="33796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32400" y="338616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94560" y="26370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29200" y="55562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81880" y="55720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73560" y="13842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510240" y="1138320"/>
            <a:ext cx="2187720" cy="949320"/>
            <a:chOff x="6510240" y="1138320"/>
            <a:chExt cx="2187720" cy="94932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6510240" y="1138320"/>
                  <a:ext cx="218772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902360" y="1189080"/>
                  <a:ext cx="39384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368280" y="1366920"/>
            <a:ext cx="4260960" cy="2156400"/>
            <a:chOff x="368280" y="1366920"/>
            <a:chExt cx="4260960" cy="2156400"/>
          </a:xfrm>
        </p:grpSpPr>
        <p:sp>
          <p:nvSpPr>
            <p:cNvPr id="108" name=""/>
            <p:cNvSpPr/>
            <p:nvPr/>
          </p:nvSpPr>
          <p:spPr>
            <a:xfrm>
              <a:off x="368280" y="1967040"/>
              <a:ext cx="4260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ince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is –2, it will go down twice as fast as normal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109520" y="1366920"/>
                  <a:ext cx="82080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0" name=""/>
          <p:cNvSpPr/>
          <p:nvPr/>
        </p:nvSpPr>
        <p:spPr>
          <a:xfrm>
            <a:off x="233280" y="3462480"/>
            <a:ext cx="44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e normal graph is from y =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437000"/>
            <a:ext cx="55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when x goes out 1, y goes up 1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927680"/>
            <a:ext cx="53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when x goes out 2, y goes up 4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8280" y="5467320"/>
            <a:ext cx="52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when x goes out 3, y goes up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3920" y="596412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 go down twice as fast as nor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05520" y="2763720"/>
            <a:ext cx="1538280" cy="2909880"/>
          </a:xfrm>
          <a:custGeom>
            <a:avLst/>
            <a:gdLst/>
            <a:ahLst/>
            <a:rect l="l" t="t" r="r" b="b"/>
            <a:pathLst>
              <a:path w="969" h="1833">
                <a:moveTo>
                  <a:pt x="969" y="1833"/>
                </a:moveTo>
                <a:cubicBezTo>
                  <a:pt x="884" y="1292"/>
                  <a:pt x="799" y="751"/>
                  <a:pt x="720" y="445"/>
                </a:cubicBezTo>
                <a:cubicBezTo>
                  <a:pt x="641" y="139"/>
                  <a:pt x="574" y="0"/>
                  <a:pt x="498" y="0"/>
                </a:cubicBezTo>
                <a:cubicBezTo>
                  <a:pt x="422" y="0"/>
                  <a:pt x="345" y="140"/>
                  <a:pt x="262" y="445"/>
                </a:cubicBezTo>
                <a:cubicBezTo>
                  <a:pt x="179" y="750"/>
                  <a:pt x="46" y="1602"/>
                  <a:pt x="0" y="183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761000" y="3092040"/>
            <a:ext cx="3754440" cy="3429000"/>
            <a:chOff x="4761000" y="3092040"/>
            <a:chExt cx="3754440" cy="3429000"/>
          </a:xfrm>
        </p:grpSpPr>
        <p:grpSp>
          <p:nvGrpSpPr>
            <p:cNvPr id="117" name=""/>
            <p:cNvGrpSpPr/>
            <p:nvPr/>
          </p:nvGrpSpPr>
          <p:grpSpPr>
            <a:xfrm>
              <a:off x="4894200" y="3166920"/>
              <a:ext cx="3428640" cy="3276360"/>
              <a:chOff x="4894200" y="3166920"/>
              <a:chExt cx="3428640" cy="3276360"/>
            </a:xfrm>
          </p:grpSpPr>
          <p:sp>
            <p:nvSpPr>
              <p:cNvPr id="118" name=""/>
              <p:cNvSpPr/>
              <p:nvPr/>
            </p:nvSpPr>
            <p:spPr>
              <a:xfrm>
                <a:off x="565596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18080" y="31669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7984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196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9420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94200" y="31669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94200" y="35308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94200" y="38948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94200" y="425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94200" y="46231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94200" y="49870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94200" y="535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94200" y="57153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94200" y="6079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flipV="1">
              <a:off x="6446880" y="30920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61000" y="60879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etching a Quadratic Function with a Positive a-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6560" y="1258920"/>
                <a:ext cx="2465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5600" y="2046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15880" y="2089080"/>
                <a:ext cx="559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11200" y="3013200"/>
                <a:ext cx="9511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714760" y="2021040"/>
                <a:ext cx="117612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48120" y="2944800"/>
                <a:ext cx="1009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914640" y="2487600"/>
                <a:ext cx="1065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149880" y="1390680"/>
                <a:ext cx="17398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12800" y="3841920"/>
                <a:ext cx="31399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619360" y="3990960"/>
                <a:ext cx="560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01640" y="4894200"/>
                <a:ext cx="2805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004160" y="1454040"/>
                <a:ext cx="561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689880" y="5265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61240" y="5272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64440" y="60213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99080" y="31226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12160" y="31021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81520" y="3171960"/>
            <a:ext cx="1516320" cy="2958840"/>
          </a:xfrm>
          <a:custGeom>
            <a:avLst/>
            <a:gdLst/>
            <a:ahLst/>
            <a:rect l="l" t="t" r="r" b="b"/>
            <a:pathLst>
              <a:path w="955" h="1864">
                <a:moveTo>
                  <a:pt x="0" y="0"/>
                </a:moveTo>
                <a:cubicBezTo>
                  <a:pt x="70" y="537"/>
                  <a:pt x="140" y="1074"/>
                  <a:pt x="220" y="1384"/>
                </a:cubicBezTo>
                <a:cubicBezTo>
                  <a:pt x="300" y="1694"/>
                  <a:pt x="398" y="1864"/>
                  <a:pt x="478" y="1862"/>
                </a:cubicBezTo>
                <a:cubicBezTo>
                  <a:pt x="558" y="1860"/>
                  <a:pt x="619" y="1682"/>
                  <a:pt x="698" y="1372"/>
                </a:cubicBezTo>
                <a:cubicBezTo>
                  <a:pt x="777" y="1062"/>
                  <a:pt x="912" y="229"/>
                  <a:pt x="95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054760" y="2916000"/>
            <a:ext cx="3754440" cy="3429000"/>
            <a:chOff x="5054760" y="2916000"/>
            <a:chExt cx="3754440" cy="3429000"/>
          </a:xfrm>
        </p:grpSpPr>
        <p:grpSp>
          <p:nvGrpSpPr>
            <p:cNvPr id="156" name=""/>
            <p:cNvGrpSpPr/>
            <p:nvPr/>
          </p:nvGrpSpPr>
          <p:grpSpPr>
            <a:xfrm>
              <a:off x="5207040" y="2990880"/>
              <a:ext cx="3428640" cy="3276360"/>
              <a:chOff x="5207040" y="2990880"/>
              <a:chExt cx="3428640" cy="3276360"/>
            </a:xfrm>
          </p:grpSpPr>
          <p:sp>
            <p:nvSpPr>
              <p:cNvPr id="157" name=""/>
              <p:cNvSpPr/>
              <p:nvPr/>
            </p:nvSpPr>
            <p:spPr>
              <a:xfrm>
                <a:off x="5968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30920" y="2990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492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54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0704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07040" y="2990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207040" y="3354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07040" y="371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207040" y="4082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07040" y="4447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207040" y="481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07040" y="5175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07040" y="5539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07040" y="5903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flipV="1">
              <a:off x="7888320" y="291600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54760" y="517212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etching a Quadratic Function with a Positive a-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99960" y="1258920"/>
                <a:ext cx="3378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5600" y="2046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42880" y="2089080"/>
                <a:ext cx="5032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495440" y="3013200"/>
                <a:ext cx="782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490840" y="2021040"/>
                <a:ext cx="16254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524400" y="288612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985000" y="1168560"/>
                <a:ext cx="27414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3280" y="3905280"/>
                <a:ext cx="4657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387440" y="3754440"/>
                <a:ext cx="85572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1200" y="5129280"/>
                <a:ext cx="17398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326360" y="1216080"/>
                <a:ext cx="99684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7583400" y="55180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35680" y="55436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59040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54800" y="44449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86600" y="4424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778200" y="3770280"/>
                <a:ext cx="8557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946160" y="5129280"/>
                <a:ext cx="11224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862280" y="5129280"/>
                <a:ext cx="14032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129120" y="5129280"/>
                <a:ext cx="162720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062760" y="27496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75760" y="27669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27920" y="2819520"/>
            <a:ext cx="2334960" cy="3171600"/>
          </a:xfrm>
          <a:custGeom>
            <a:avLst/>
            <a:gdLst/>
            <a:ahLst/>
            <a:rect l="l" t="t" r="r" b="b"/>
            <a:pathLst>
              <a:path w="1471" h="1998">
                <a:moveTo>
                  <a:pt x="0" y="0"/>
                </a:moveTo>
                <a:cubicBezTo>
                  <a:pt x="88" y="386"/>
                  <a:pt x="176" y="773"/>
                  <a:pt x="258" y="1067"/>
                </a:cubicBezTo>
                <a:cubicBezTo>
                  <a:pt x="340" y="1361"/>
                  <a:pt x="407" y="1610"/>
                  <a:pt x="491" y="1765"/>
                </a:cubicBezTo>
                <a:cubicBezTo>
                  <a:pt x="575" y="1920"/>
                  <a:pt x="680" y="1998"/>
                  <a:pt x="760" y="1998"/>
                </a:cubicBezTo>
                <a:cubicBezTo>
                  <a:pt x="840" y="1998"/>
                  <a:pt x="891" y="1922"/>
                  <a:pt x="969" y="1765"/>
                </a:cubicBezTo>
                <a:cubicBezTo>
                  <a:pt x="1047" y="1608"/>
                  <a:pt x="1142" y="1346"/>
                  <a:pt x="1226" y="1054"/>
                </a:cubicBezTo>
                <a:cubicBezTo>
                  <a:pt x="1310" y="762"/>
                  <a:pt x="1430" y="187"/>
                  <a:pt x="1471" y="1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91280" y="634212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rma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5094360" y="2895120"/>
            <a:ext cx="3754440" cy="3429000"/>
            <a:chOff x="5094360" y="2895120"/>
            <a:chExt cx="3754440" cy="3429000"/>
          </a:xfrm>
        </p:grpSpPr>
        <p:grpSp>
          <p:nvGrpSpPr>
            <p:cNvPr id="201" name=""/>
            <p:cNvGrpSpPr/>
            <p:nvPr/>
          </p:nvGrpSpPr>
          <p:grpSpPr>
            <a:xfrm>
              <a:off x="5207040" y="2990880"/>
              <a:ext cx="3428640" cy="3276360"/>
              <a:chOff x="5207040" y="2990880"/>
              <a:chExt cx="3428640" cy="3276360"/>
            </a:xfrm>
          </p:grpSpPr>
          <p:sp>
            <p:nvSpPr>
              <p:cNvPr id="202" name=""/>
              <p:cNvSpPr/>
              <p:nvPr/>
            </p:nvSpPr>
            <p:spPr>
              <a:xfrm>
                <a:off x="5968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30920" y="299088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9268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25480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07040" y="299088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07040" y="29908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07040" y="335484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07040" y="371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07040" y="408276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07040" y="44470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07040" y="481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07040" y="51750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7040" y="55393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07040" y="59032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V="1">
              <a:off x="7129440" y="289512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4360" y="589104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77880"/>
            <a:ext cx="93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etching a Quadratic Function with a Positive a-val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36520" y="1239840"/>
                <a:ext cx="4016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5600" y="2046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415880" y="2116080"/>
                <a:ext cx="559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495440" y="3013200"/>
                <a:ext cx="782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490840" y="2021040"/>
                <a:ext cx="16254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24400" y="288612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224760" y="1574640"/>
                <a:ext cx="2260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7320" y="3905280"/>
                <a:ext cx="4811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298520" y="4118040"/>
                <a:ext cx="6843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31920" y="5275440"/>
                <a:ext cx="15159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575480" y="1636560"/>
                <a:ext cx="498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7018200" y="543888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4640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54960" y="58244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70520" y="4365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02680" y="43448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78240" y="4133880"/>
                <a:ext cx="684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709640" y="5281560"/>
                <a:ext cx="10112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616120" y="5261040"/>
                <a:ext cx="8985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478480" y="26701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91480" y="26877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43640" y="2739960"/>
            <a:ext cx="2334960" cy="3171960"/>
          </a:xfrm>
          <a:custGeom>
            <a:avLst/>
            <a:gdLst/>
            <a:ahLst/>
            <a:rect l="l" t="t" r="r" b="b"/>
            <a:pathLst>
              <a:path w="1471" h="1998">
                <a:moveTo>
                  <a:pt x="0" y="0"/>
                </a:moveTo>
                <a:cubicBezTo>
                  <a:pt x="88" y="386"/>
                  <a:pt x="176" y="773"/>
                  <a:pt x="258" y="1067"/>
                </a:cubicBezTo>
                <a:cubicBezTo>
                  <a:pt x="340" y="1361"/>
                  <a:pt x="407" y="1610"/>
                  <a:pt x="491" y="1765"/>
                </a:cubicBezTo>
                <a:cubicBezTo>
                  <a:pt x="575" y="1920"/>
                  <a:pt x="680" y="1998"/>
                  <a:pt x="760" y="1998"/>
                </a:cubicBezTo>
                <a:cubicBezTo>
                  <a:pt x="840" y="1998"/>
                  <a:pt x="891" y="1922"/>
                  <a:pt x="969" y="1765"/>
                </a:cubicBezTo>
                <a:cubicBezTo>
                  <a:pt x="1047" y="1608"/>
                  <a:pt x="1142" y="1346"/>
                  <a:pt x="1226" y="1054"/>
                </a:cubicBezTo>
                <a:cubicBezTo>
                  <a:pt x="1310" y="762"/>
                  <a:pt x="1430" y="187"/>
                  <a:pt x="1471" y="1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91280" y="634212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rma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40240" y="5270400"/>
                <a:ext cx="10666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800600" y="3092040"/>
            <a:ext cx="3754440" cy="3429000"/>
            <a:chOff x="4800600" y="3092040"/>
            <a:chExt cx="3754440" cy="3429000"/>
          </a:xfrm>
        </p:grpSpPr>
        <p:grpSp>
          <p:nvGrpSpPr>
            <p:cNvPr id="246" name=""/>
            <p:cNvGrpSpPr/>
            <p:nvPr/>
          </p:nvGrpSpPr>
          <p:grpSpPr>
            <a:xfrm>
              <a:off x="4894200" y="3166920"/>
              <a:ext cx="3428640" cy="3276360"/>
              <a:chOff x="4894200" y="3166920"/>
              <a:chExt cx="3428640" cy="3276360"/>
            </a:xfrm>
          </p:grpSpPr>
          <p:sp>
            <p:nvSpPr>
              <p:cNvPr id="247" name=""/>
              <p:cNvSpPr/>
              <p:nvPr/>
            </p:nvSpPr>
            <p:spPr>
              <a:xfrm>
                <a:off x="565596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18080" y="3166920"/>
                <a:ext cx="38052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7984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94196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94200" y="3166920"/>
                <a:ext cx="380880" cy="327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94200" y="31669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94200" y="353088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894200" y="38948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94200" y="425880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94200" y="462312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94200" y="498708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94200" y="535104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94200" y="5715360"/>
                <a:ext cx="3428640" cy="363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94200" y="6079320"/>
                <a:ext cx="3428640" cy="36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V="1">
              <a:off x="6446880" y="3092040"/>
              <a:ext cx="0" cy="3429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00600" y="35193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572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7788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ing a Quadratic Function with a Negative a-valu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84040" y="1258920"/>
                <a:ext cx="28306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55600" y="2046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786200" y="1617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415880" y="2089080"/>
                <a:ext cx="559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01840" y="2992320"/>
                <a:ext cx="13986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714760" y="2021040"/>
                <a:ext cx="117612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300480" y="2917800"/>
                <a:ext cx="5047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914640" y="2487600"/>
                <a:ext cx="1065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149880" y="1390680"/>
                <a:ext cx="17398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17680" y="3841920"/>
                <a:ext cx="353196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793960" y="4010040"/>
                <a:ext cx="560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01640" y="4894200"/>
                <a:ext cx="2805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004160" y="1454040"/>
                <a:ext cx="561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6691320" y="48769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42160" y="49021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65880" y="34336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78360" y="3498840"/>
            <a:ext cx="1225800" cy="3174840"/>
          </a:xfrm>
          <a:custGeom>
            <a:avLst/>
            <a:gdLst/>
            <a:ahLst/>
            <a:rect l="l" t="t" r="r" b="b"/>
            <a:pathLst>
              <a:path w="772" h="2000">
                <a:moveTo>
                  <a:pt x="0" y="2000"/>
                </a:moveTo>
                <a:cubicBezTo>
                  <a:pt x="39" y="1627"/>
                  <a:pt x="78" y="1254"/>
                  <a:pt x="147" y="921"/>
                </a:cubicBezTo>
                <a:cubicBezTo>
                  <a:pt x="216" y="588"/>
                  <a:pt x="337" y="0"/>
                  <a:pt x="417" y="2"/>
                </a:cubicBezTo>
                <a:cubicBezTo>
                  <a:pt x="497" y="4"/>
                  <a:pt x="566" y="604"/>
                  <a:pt x="625" y="933"/>
                </a:cubicBezTo>
                <a:cubicBezTo>
                  <a:pt x="684" y="1262"/>
                  <a:pt x="748" y="1803"/>
                  <a:pt x="772" y="197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5073480" y="2803320"/>
            <a:ext cx="3754440" cy="3429000"/>
            <a:chOff x="5073480" y="2803320"/>
            <a:chExt cx="3754440" cy="3429000"/>
          </a:xfrm>
        </p:grpSpPr>
        <p:grpSp>
          <p:nvGrpSpPr>
            <p:cNvPr id="283" name=""/>
            <p:cNvGrpSpPr/>
            <p:nvPr/>
          </p:nvGrpSpPr>
          <p:grpSpPr>
            <a:xfrm>
              <a:off x="5207040" y="2878200"/>
              <a:ext cx="3429000" cy="3276720"/>
              <a:chOff x="5207040" y="2878200"/>
              <a:chExt cx="3429000" cy="3276720"/>
            </a:xfrm>
          </p:grpSpPr>
          <p:sp>
            <p:nvSpPr>
              <p:cNvPr id="284" name=""/>
              <p:cNvSpPr/>
              <p:nvPr/>
            </p:nvSpPr>
            <p:spPr>
              <a:xfrm>
                <a:off x="5969160" y="287820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30920" y="2878200"/>
                <a:ext cx="38124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93040" y="287820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255160" y="287820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07040" y="287820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07040" y="287820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07040" y="324180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207040" y="360684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07040" y="433404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07040" y="397044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07040" y="469908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7040" y="506268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7040" y="542628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07040" y="579132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6740640" y="2803320"/>
              <a:ext cx="0" cy="3429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73480" y="3249720"/>
              <a:ext cx="3754440" cy="144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7788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ing a Quadratic Function with a Negative a-valu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78000" y="1204920"/>
                <a:ext cx="34239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55600" y="1992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786200" y="1563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498680" y="2062080"/>
                <a:ext cx="392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419120" y="2940120"/>
                <a:ext cx="1285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714760" y="1967040"/>
                <a:ext cx="117792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309840" y="2813040"/>
                <a:ext cx="560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345360" y="1114560"/>
                <a:ext cx="201924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28520" y="3851280"/>
                <a:ext cx="4711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908000" y="3700440"/>
                <a:ext cx="5144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7640" y="5075280"/>
                <a:ext cx="218916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524720" y="1162080"/>
                <a:ext cx="59868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236000" y="3438360"/>
            <a:ext cx="152280" cy="15264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67400" y="3446640"/>
            <a:ext cx="15264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91480" y="3084480"/>
            <a:ext cx="15228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86520" y="4546440"/>
            <a:ext cx="152280" cy="15264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18320" y="4506840"/>
            <a:ext cx="152640" cy="15264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930480" y="3695760"/>
                <a:ext cx="5130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209680" y="5056200"/>
                <a:ext cx="117972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225520" y="5073480"/>
                <a:ext cx="117972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76720" y="5092560"/>
                <a:ext cx="1177920" cy="17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5694480" y="633240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07480" y="63500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1280" y="628812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rma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59280" y="3166920"/>
            <a:ext cx="2354400" cy="3349800"/>
          </a:xfrm>
          <a:custGeom>
            <a:avLst/>
            <a:gdLst/>
            <a:ahLst/>
            <a:rect l="l" t="t" r="r" b="b"/>
            <a:pathLst>
              <a:path w="1483" h="2110">
                <a:moveTo>
                  <a:pt x="0" y="2110"/>
                </a:moveTo>
                <a:cubicBezTo>
                  <a:pt x="88" y="1673"/>
                  <a:pt x="176" y="1236"/>
                  <a:pt x="258" y="921"/>
                </a:cubicBezTo>
                <a:cubicBezTo>
                  <a:pt x="340" y="606"/>
                  <a:pt x="405" y="375"/>
                  <a:pt x="491" y="222"/>
                </a:cubicBezTo>
                <a:cubicBezTo>
                  <a:pt x="577" y="69"/>
                  <a:pt x="688" y="4"/>
                  <a:pt x="772" y="2"/>
                </a:cubicBezTo>
                <a:cubicBezTo>
                  <a:pt x="856" y="0"/>
                  <a:pt x="917" y="61"/>
                  <a:pt x="993" y="210"/>
                </a:cubicBezTo>
                <a:cubicBezTo>
                  <a:pt x="1069" y="359"/>
                  <a:pt x="1144" y="582"/>
                  <a:pt x="1226" y="896"/>
                </a:cubicBezTo>
                <a:cubicBezTo>
                  <a:pt x="1308" y="1210"/>
                  <a:pt x="1440" y="1897"/>
                  <a:pt x="1483" y="209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5313240" y="2784240"/>
            <a:ext cx="3754440" cy="3429000"/>
            <a:chOff x="5313240" y="2784240"/>
            <a:chExt cx="3754440" cy="3429000"/>
          </a:xfrm>
        </p:grpSpPr>
        <p:grpSp>
          <p:nvGrpSpPr>
            <p:cNvPr id="328" name=""/>
            <p:cNvGrpSpPr/>
            <p:nvPr/>
          </p:nvGrpSpPr>
          <p:grpSpPr>
            <a:xfrm>
              <a:off x="5446800" y="2859120"/>
              <a:ext cx="3429000" cy="3276720"/>
              <a:chOff x="5446800" y="2859120"/>
              <a:chExt cx="3429000" cy="3276720"/>
            </a:xfrm>
          </p:grpSpPr>
          <p:sp>
            <p:nvSpPr>
              <p:cNvPr id="329" name=""/>
              <p:cNvSpPr/>
              <p:nvPr/>
            </p:nvSpPr>
            <p:spPr>
              <a:xfrm>
                <a:off x="6208920" y="285912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70680" y="2859120"/>
                <a:ext cx="38124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32800" y="285912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94920" y="285912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46800" y="2859120"/>
                <a:ext cx="380880" cy="3276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46800" y="285912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46800" y="322272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46800" y="358776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46800" y="431496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46800" y="395136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46800" y="468000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46800" y="504360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46800" y="5407200"/>
                <a:ext cx="3429000" cy="36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46800" y="5772240"/>
                <a:ext cx="3429000" cy="363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flipV="1">
              <a:off x="7350120" y="2784240"/>
              <a:ext cx="0" cy="3429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13240" y="4340160"/>
              <a:ext cx="3754440" cy="1800"/>
            </a:xfrm>
            <a:custGeom>
              <a:avLst/>
              <a:gdLst/>
              <a:ahLst/>
              <a:rect l="l" t="t" r="r" b="b"/>
              <a:pathLst>
                <a:path w="2365" h="1">
                  <a:moveTo>
                    <a:pt x="0" y="0"/>
                  </a:moveTo>
                  <a:lnTo>
                    <a:pt x="2365" y="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677880"/>
            <a:ext cx="939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ing a Quadratic Function with a Negative a-valu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14200" y="1166760"/>
                <a:ext cx="4427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55600" y="1992240"/>
                <a:ext cx="245916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4786200" y="156384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193760" y="2062080"/>
                <a:ext cx="1004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360440" y="2959200"/>
                <a:ext cx="1285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490840" y="1967040"/>
                <a:ext cx="16254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524400" y="283212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6230880" y="1384200"/>
                <a:ext cx="19731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-49320" y="3851280"/>
                <a:ext cx="5224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474920" y="4043520"/>
                <a:ext cx="684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0" y="5259240"/>
                <a:ext cx="196524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399440" y="1392120"/>
                <a:ext cx="498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475080" y="4079880"/>
                <a:ext cx="684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778040" y="5246640"/>
                <a:ext cx="10684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716200" y="5257800"/>
                <a:ext cx="1009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5291280" y="6288120"/>
            <a:ext cx="32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rma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3635280" y="5262480"/>
                <a:ext cx="10684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7261200" y="3146400"/>
            <a:ext cx="15228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92960" y="3154320"/>
            <a:ext cx="15228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16680" y="2792520"/>
            <a:ext cx="15228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1720" y="4254480"/>
            <a:ext cx="15264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43880" y="4214880"/>
            <a:ext cx="152280" cy="15228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9680" y="604044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32680" y="605808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84840" y="2874960"/>
            <a:ext cx="2354400" cy="3349800"/>
          </a:xfrm>
          <a:custGeom>
            <a:avLst/>
            <a:gdLst/>
            <a:ahLst/>
            <a:rect l="l" t="t" r="r" b="b"/>
            <a:pathLst>
              <a:path w="1483" h="2110">
                <a:moveTo>
                  <a:pt x="0" y="2110"/>
                </a:moveTo>
                <a:cubicBezTo>
                  <a:pt x="88" y="1673"/>
                  <a:pt x="176" y="1236"/>
                  <a:pt x="258" y="921"/>
                </a:cubicBezTo>
                <a:cubicBezTo>
                  <a:pt x="340" y="606"/>
                  <a:pt x="405" y="375"/>
                  <a:pt x="491" y="222"/>
                </a:cubicBezTo>
                <a:cubicBezTo>
                  <a:pt x="577" y="69"/>
                  <a:pt x="688" y="4"/>
                  <a:pt x="772" y="2"/>
                </a:cubicBezTo>
                <a:cubicBezTo>
                  <a:pt x="856" y="0"/>
                  <a:pt x="917" y="61"/>
                  <a:pt x="993" y="210"/>
                </a:cubicBezTo>
                <a:cubicBezTo>
                  <a:pt x="1069" y="359"/>
                  <a:pt x="1144" y="582"/>
                  <a:pt x="1226" y="896"/>
                </a:cubicBezTo>
                <a:cubicBezTo>
                  <a:pt x="1308" y="1210"/>
                  <a:pt x="1440" y="1897"/>
                  <a:pt x="1483" y="209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2T18:20:39Z</dcterms:created>
  <dc:creator>Don Helms</dc:creator>
  <dc:description/>
  <dc:language>en-US</dc:language>
  <cp:lastModifiedBy>DAMON SKELTON</cp:lastModifiedBy>
  <dcterms:modified xsi:type="dcterms:W3CDTF">2002-12-26T22:50:06Z</dcterms:modified>
  <cp:revision>27</cp:revision>
  <dc:subject/>
  <dc:title>No Slide Title</dc:title>
</cp:coreProperties>
</file>